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783-A83F-450D-BC8F-172450C4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51D-16A1-4680-BA2D-4BD42BA1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BA0-77C3-4AC6-B057-7855DD6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7F6-20F0-438E-9159-C886B894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CC8D-7400-4789-8E55-3429788F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C5BF-B384-4818-AEDD-20C72B2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0D85-72B6-4B47-8AED-AD7E2F4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DF3-6A14-4A8D-9309-7FD0BC9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B19A-BB1F-45B2-BA36-173BBAD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D50D-CA8E-428D-87FF-B54A66A3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1D2E-94C5-4B8D-880D-6D60CAC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721-17BA-4ABD-BAE4-9156D58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47A-2E96-4491-BB85-65DCCC3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7C2A-4D43-42EE-8DF5-46678C8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A007-0EAA-49E9-A513-8EF3DF4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88E-E623-4115-B460-C631DCD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63B2-C0B5-485F-A24F-5B9D8FFF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F01-AC69-4506-BCE5-3E5D5F06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F19-C725-4128-9D5D-A62D83CB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8FE-19AF-4725-AD84-98D14A2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3A6-654D-40A4-ADD0-88B24932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F92-F904-49A5-B82D-D018EBF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875-CB95-4049-8E97-C885D41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C3-2467-4CEF-A66B-E7C6180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8C24-6B5F-4D15-B45D-076C1B0A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64722-5C6C-435A-AFAA-439E819FA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Preview Questions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411480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is an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parable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story that makes a clear point, or teach a lesson, without actually stating the point outrigh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milar to an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ile the book is being read, think about these two question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makes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he Butter Battle Book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rable?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point do you think Dr. Seuss is making with this story?  (He wrote it in 1984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do walls represent in society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 walls represent when they form a border between two countrie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es the wall in the book represent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happens to the wall during the course of the book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In what ways is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 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a parable of the Cold War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on between the two countries for the most powerful weap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division between the two countries over a very basic (though in this case silly) ide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science in leading towards greater destruc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patriotism (the Butter-Up band and the cheerleaders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 the name of the final weapon (the “Bitsy Big-Boy Boomeroo”) is a play on the bombs dropped on Japan (“Fat Man” and “Little Boy”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1:58:02Z</dcterms:created>
  <dc:creator/>
  <dc:description/>
  <dc:language>en-US</dc:language>
  <cp:lastModifiedBy/>
  <cp:revision>1</cp:revision>
  <dc:subject/>
  <dc:title/>
</cp:coreProperties>
</file>